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C9F-CF6D-44F4-8D27-1C85A48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7C7-642E-4256-985C-68F457C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4B2-C639-4543-98E6-E8733AE2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7A8-2F64-4ADE-946F-A24B8B63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D417F-ED50-4FC3-9C64-3C5E016C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2E557-12F8-4A26-A396-A82F26F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17913-936A-4232-B1FC-0A9CF087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53BC-2030-49C9-860A-7282A3EB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6CEB-3D4F-4940-A967-725EAC7C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1A45-07A2-4A62-B37A-CF835064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65BD1-1D6D-47CF-9586-8BE6559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A35-E555-467B-B7DB-4C05AF3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BD79-1853-4B57-B150-E947BD8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8AE74-CCD1-489C-A053-966DBAD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B125-BFE2-456F-9FFD-1A33D2C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0EBE-0919-4D7A-A8A4-3AEAC49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3DA9-F274-463E-BFF5-1B8F0C0A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DBC-9158-4C0B-974E-3F96A12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9AF-C818-46E3-B67D-1E3674F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66C-BC1C-42A4-909A-49D1FA7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5DA-E583-46B9-9091-038CC76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90-2ABB-43F5-AE20-BA88078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262-0A3E-4151-9796-4BD5C74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83F-1416-4328-B365-7190B2D4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6DD5-1B33-4B7E-AB0A-6E6793DA3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4226-B383-4058-BC26-CCD461B4C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Обобщение и систематизация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знаний по теме: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«Изменения, происходящие с веществ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7. Световых частиц поток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адает на зеленый листок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Листок кислород выделяет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Углекислый газ поглощает. 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Ученик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8. Когда металл в крутые формы льем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Мне верится, что оживут в металле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Горячие полдневные поля.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ипит металл и ждут его поля. 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А. Кравц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(Х Х Ф Х Ф Х Х Ф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Химический эксперимен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абораторный опы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ите химический эксперимент (соблюдая правила техники безопасности) в соответствии с планом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лейте в пробирку раствор карбоната натр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рилейте осторожно в пробирку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е внимание, что происходит. Что наблюдает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делайте вывод о признаке химической ре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Химический эксперимен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абораторный опы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ите химический эксперимент (соблюдая правила техники безопасности) в соответствии с планом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лейте в пробирку сульфата меди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рилейте в пробирку (осторожно!) гидроксид натрия. Что наблюдает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делайте вывод о призна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ой реакци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Химический эксперимен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Лабораторный опы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ыт 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ейте в пробирку (ОСТОРОЖНО!)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Добавьте две – три капли индикатора метилоранжа. Что наблюд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Сделайте вывод о признаках химической ре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Химические уравн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тавить коэффициенты в уравнениях реакций и определить т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2 + О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2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Al + HC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AlCl3 + H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g(ОН)2 + H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gСl2 + Н2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 + О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a + Н2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aОН + H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l(ОН)3 + H2SO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Al2(SO4)3 + Н2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Н2 + О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Н2О – р. 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Al + 6HC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AlCl3 + 3H2 – р. за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g(ОН)2 + 2H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gСl2 + Н2О – р. об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Са + О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СаО  - р. со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Na + 2Н2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NaОН + H2 – р. за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Аl(ОН)3 + 3H2SO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Al2(SO4)3 + 6Н2О – об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сли у Вас средний балл 4,5-5 – оценка «5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сли 3,5-4 – оценка «4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еньше 3,5-2,8 – оценка «3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воек надеюсь не «нахватали»? ;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жившим ;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что отработали этот урок в «походных условиях» и пополнили багаж своих рюкзачков трофеями знаний. За очередными пятерками и четверками приходите на следующую контрольную в кабинет №4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оздравляем Леонардо Ди Каприо с долгожданным Оскар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понятия: физические и химически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знаки химических ре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репить умения записывать уравнения реакций и определять их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одить простейшие расчеты по химическим уравнен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изнаки химических реакц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гадайте, о каком явлении: физическом или химическом идет речь в стихотвор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ам будут предложены восемь отрывков. Поставьте против цифры буквы Ф или Х, т.е. явление физическое или химическое описано в данном стихотворе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Унылая пора! Очей очарованье!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ятна мне твоя прощальная краса-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Люблю я пышное природы увяданье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 багрец и золото одетые леса.     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. И трещат сухие сучья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Разгораясь жарко.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свящая тьму ночную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алеко и жарко!        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.Суриков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3. В декабре, в декабре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е деревья в серебре.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шу речку, словно в сказке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 ночь вымостил мороз…   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.Я.Марша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4. А если медь в печи нагреть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То станет тяжелее медь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 окалиною вместе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Не верите – так взвесьте…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. Ефимовск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Что за звездочки резные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а пальто и на платке?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е сквозные, вырезные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А возьмешь – вода в руке?        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Е. Благини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6. На рукомойнике моем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зеленела медь.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Но так играет луч на нем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Что весело смотреть.  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А. Ахмат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20:47:24Z</dcterms:created>
  <dc:creator>НР</dc:creator>
  <dc:description/>
  <dc:language>en-US</dc:language>
  <cp:lastModifiedBy>HP</cp:lastModifiedBy>
  <dcterms:modified xsi:type="dcterms:W3CDTF">2018-02-19T17:48:5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